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FB94-A272-4032-996E-330654EE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ba4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D961-63AA-42D5-AA72-D05D3BBD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ba40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7348-3D17-4D22-8726-57E630C9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ba40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EC1D-2011-4700-B206-62BC9BAA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ba40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7678-BEBD-4E7D-8F1C-72637FC7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ba4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55C7-2FA2-49F4-ABAD-5868E9A1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ba4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95C2-DF58-4EBA-BC37-8CF625B4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ba4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A80A-D444-4054-A549-30B8F81E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7807-3A26-4CC5-B461-D5785E4B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ba40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151E-0725-4853-AE01-91D3FC6D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ba4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B7A9-5257-462C-B0C7-DAA6C6C1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ba4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6D8A-7A55-4022-9AB1-1E01E750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ky 2.jpg"/>
          <p:cNvPicPr/>
          <p:nvPr/>
        </p:nvPicPr>
        <p:blipFill>
          <a:blip r:embed="rId2"/>
          <a:srcRect l="0" t="7463" r="0" b="39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355D-7F23-48FB-8546-ECEC90B08EC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" descr="calm_sea2.jpg"/>
          <p:cNvPicPr/>
          <p:nvPr/>
        </p:nvPicPr>
        <p:blipFill>
          <a:blip r:embed="rId3"/>
          <a:srcRect l="0" t="0" r="7162" b="4777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Praise is rising;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Eyes are turning to You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We turn to You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Hope is stirring;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Hearts are yearning for You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We long for You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438280" y="68580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Arial"/>
              </a:rPr>
              <a:t>HOSAN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‘</a:t>
            </a: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cause when we see You,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We find strength to face the day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And in Your presence,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All our fears are washed away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Washed away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Hosanna, Hosanna!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You are the God who saves us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Worthy of all our praises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Hear the sound of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Hearts returning to You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We turn to You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In Your kingdom,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Broken lives are made new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You make us new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‘</a:t>
            </a: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cause when we see You,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We find strength to face the day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And in Your presence,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All our fears are washed away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Washed away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Hosanna, Hosanna!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You are the God who saves us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Worthy of all our praises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Hosanna, Hosanna!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Come have Your way among us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We welcome you here, Lord Jesus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‘</a:t>
            </a: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cause when we see You,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We find strength to face the day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And in Your presence,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All our fears are washed away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Washed away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Hosanna, Hosanna!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You are the God who saves us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Worthy of all our praises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Hosanna, Hosanna!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Come have Your way among us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We welcome you here, Lord Jesus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9:28:32Z</dcterms:created>
  <dc:creator>Peter Rivezzo</dc:creator>
  <dc:description/>
  <dc:language>en-US</dc:language>
  <cp:lastModifiedBy>Peter Rivezzo</cp:lastModifiedBy>
  <dcterms:modified xsi:type="dcterms:W3CDTF">2010-03-05T19:28:32Z</dcterms:modified>
  <cp:revision>1</cp:revision>
  <dc:subject/>
  <dc:title>Slide 1</dc:title>
</cp:coreProperties>
</file>